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36B5-19CD-4B36-A068-7C35B404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4F38-A0C0-4DED-81C1-FC403925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7414-6217-4C95-8DBF-6E87DAD09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10A5-3A5B-446C-9C20-BEEDAD7B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27CE-11EE-4FA1-A7DD-CBDB75CE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6503-E2BE-4FA3-93F7-AEFA6C50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1907-7176-4368-A6BE-677CB73C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A1F8-B7BD-4040-AA81-F5DBC6B7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50A6-F35A-42F5-9A32-E03FB84C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5B71-5F75-404F-953A-43E409B7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6C8E-C788-4A70-83B1-B2D88BB8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C4E9-9C1B-4A80-83B2-338C6B55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4AB7-C5D0-4297-B5B6-AC68B0D7CC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66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30b58ea3"/>
          <p:cNvPicPr/>
          <p:nvPr/>
        </p:nvPicPr>
        <p:blipFill>
          <a:blip r:embed="rId2"/>
          <a:stretch/>
        </p:blipFill>
        <p:spPr>
          <a:xfrm>
            <a:off x="2411280" y="620640"/>
            <a:ext cx="3760920" cy="3551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30b58ea3"/>
          <p:cNvPicPr/>
          <p:nvPr/>
        </p:nvPicPr>
        <p:blipFill>
          <a:blip r:embed="rId3"/>
          <a:stretch/>
        </p:blipFill>
        <p:spPr>
          <a:xfrm>
            <a:off x="2428920" y="642960"/>
            <a:ext cx="3760920" cy="35510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2413080" y="5734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http://img-fotki.yandex.ru/get/5802/talana1959.11d/0_5733c_3ad1dc64_XL.jpg"/>
          <p:cNvPicPr/>
          <p:nvPr/>
        </p:nvPicPr>
        <p:blipFill>
          <a:blip r:embed="rId4"/>
          <a:stretch/>
        </p:blipFill>
        <p:spPr>
          <a:xfrm>
            <a:off x="357120" y="4430880"/>
            <a:ext cx="1785960" cy="1755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http://img-fotki.yandex.ru/get/5802/talana1959.11d/0_5733c_3ad1dc64_XL.jpg"/>
          <p:cNvPicPr/>
          <p:nvPr/>
        </p:nvPicPr>
        <p:blipFill>
          <a:blip r:embed="rId5"/>
          <a:stretch/>
        </p:blipFill>
        <p:spPr>
          <a:xfrm rot="14835000">
            <a:off x="6503760" y="4495320"/>
            <a:ext cx="193176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87280" y="1599840"/>
            <a:ext cx="705672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родная пословица глас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Соблюдай режим труда и быта, будет здоровье крепче гранита»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7" descr="http://daru-vam-otkritku.ru/wp-content/uploads/2015/03/111505939_102899123_scrapangie_lilies_ele11.png"/>
          <p:cNvPicPr/>
          <p:nvPr/>
        </p:nvPicPr>
        <p:blipFill>
          <a:blip r:embed="rId1"/>
          <a:stretch/>
        </p:blipFill>
        <p:spPr>
          <a:xfrm>
            <a:off x="0" y="142920"/>
            <a:ext cx="2751120" cy="1928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ttp://daru-vam-otkritku.ru/wp-content/uploads/2015/03/111505939_102899123_scrapangie_lilies_ele11.png"/>
          <p:cNvPicPr/>
          <p:nvPr/>
        </p:nvPicPr>
        <p:blipFill>
          <a:blip r:embed="rId2"/>
          <a:stretch/>
        </p:blipFill>
        <p:spPr>
          <a:xfrm>
            <a:off x="6392880" y="4643280"/>
            <a:ext cx="27511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16000" y="2060280"/>
            <a:ext cx="71280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родная мудрость гласит: «Дерево держится своими корнями, а человек 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пищей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258920" y="1989000"/>
            <a:ext cx="6913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народе говоря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Эта девочка красивая, как берёзка, а мальчик стройный, как тополё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26920" y="1600200"/>
            <a:ext cx="734544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олотое правил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бщения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Относись к окружающим так, как хочешь, что бы они относились к тебе!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http://daru-vam-otkritku.ru/wp-content/uploads/2015/03/111505939_102899123_scrapangie_lilies_ele11.png"/>
          <p:cNvPicPr/>
          <p:nvPr/>
        </p:nvPicPr>
        <p:blipFill>
          <a:blip r:embed="rId1"/>
          <a:stretch/>
        </p:blipFill>
        <p:spPr>
          <a:xfrm>
            <a:off x="0" y="0"/>
            <a:ext cx="2751120" cy="1928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http://daru-vam-otkritku.ru/wp-content/uploads/2015/03/111505939_102899123_scrapangie_lilies_ele11.png"/>
          <p:cNvPicPr/>
          <p:nvPr/>
        </p:nvPicPr>
        <p:blipFill>
          <a:blip r:embed="rId2"/>
          <a:stretch/>
        </p:blipFill>
        <p:spPr>
          <a:xfrm>
            <a:off x="6392880" y="4643280"/>
            <a:ext cx="27511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66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30b58ea3"/>
          <p:cNvPicPr/>
          <p:nvPr/>
        </p:nvPicPr>
        <p:blipFill>
          <a:blip r:embed="rId2"/>
          <a:stretch/>
        </p:blipFill>
        <p:spPr>
          <a:xfrm>
            <a:off x="2195640" y="765000"/>
            <a:ext cx="41925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20:05Z</dcterms:created>
  <dc:creator>марина</dc:creator>
  <dc:description/>
  <dc:language>en-US</dc:language>
  <cp:lastModifiedBy>Карина</cp:lastModifiedBy>
  <dcterms:modified xsi:type="dcterms:W3CDTF">2017-04-08T20:33:08Z</dcterms:modified>
  <cp:revision>76</cp:revision>
  <dc:subject/>
  <dc:title>Заголовок слайда</dc:title>
</cp:coreProperties>
</file>